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D6321-EDAC-4AFB-BDC2-850F9285C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10D56-93FA-42DE-8040-C78E1B891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DCB6F-81BA-451E-B8C4-E5EEBECFE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F4555-53CA-484D-AF05-8AAC99AE4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27780-4727-4E37-A25B-C465185E14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97800-4115-40E1-AC01-44A9BBB5FF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85300-16AA-4FAB-B653-C985D7357C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56DCC-91BB-46A5-9816-8F0B33B339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71CFB-4A8C-449F-BAC9-FD27734D7D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7DBF6-B93A-4889-A6DC-8FC24D2438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30E83-7249-42A8-AF8D-AFB52487FB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C429-B0C3-4DC3-BDE0-2788A307A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8878A-2F08-4E09-81A7-DEC31D6739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69DAA-29B6-4911-B826-B8AB4A5AEC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5B047-59BE-4990-9085-6D1B9189A0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78BE8-4440-4104-B6E7-DA5457BBED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94F5B-6F10-4AA3-B036-B99D4A90BF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7B107-1480-4F89-B504-33CCE1F54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06D27-513E-4027-BB11-926EDC48F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4C7D5-BE57-44D5-B9A5-28BA840A1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FEF9-7B06-4F19-B22C-6D14E14EB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46E3E-7E27-43E8-A13B-1E6A683E0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EB77-6F76-49CF-81C1-09AF92560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74475-9D89-4CD1-8338-C4D81A352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DD4B14B-3668-4C48-8E8C-E7AD73D357D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77DBF71-41CE-4611-A84A-2CCB5B6B9D6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580000" y="260280"/>
            <a:ext cx="290844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508720" y="338040"/>
            <a:ext cx="2504880" cy="590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30EEDC7-5E6B-475A-94E6-76630CA80FA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A55CA93-76C9-4385-AF58-D9433695E93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9-01-24T11:11:59Z</dcterms:modified>
  <cp:revision>257</cp:revision>
  <dc:subject/>
  <dc:title>8: SAMPLE SIZE DETERMINATION</dc:title>
</cp:coreProperties>
</file>